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207-2EF2-44BA-86A4-262599AF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43F-7290-4D30-81A4-C966225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FAC-FDC8-4626-A105-9E8CBEF6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D8E-DE9C-48B0-A713-DD2F58B2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A0548-3BB9-416C-A087-9BC56F5F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CD713-3529-4392-B6D4-55A1F94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7FE97-2DCE-4817-8EB4-1C344094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6405F-BFA8-4D9A-90B7-5DE8825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D0A48-7619-45D8-89AF-5088112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71C24-486D-4579-8DAD-CBEE7503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11AA-4D38-47FA-8B3F-E6A605A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CF-1060-4486-B689-0F1A1CDC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E1590-AA72-40D8-97E9-5B92C19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38A2C-E606-41E9-81FD-9E04455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EBFAF-E2E8-400B-BE78-BF8CF47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677C7-3EB2-4889-A372-E5F5430E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1561E-BCA2-4221-9142-DE47DE3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430-BE1D-45CA-8ED7-919AA352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FFA-D8F5-441B-8C73-3D08BD6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19C-AA9B-46C2-A385-95933DA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3B5-B669-4C7C-BC15-927C547B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E22-7BED-45A8-BD12-3D81711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074-6C60-41AD-A514-F7999BA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3B8-1010-41EA-9672-88BB26E5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0ECD-E432-40BE-B5A0-31DD2A8B2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D014-877A-4FF7-BA32-1FDB1E2A5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2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Experime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25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en you make a graph, how do you know which variable goes on which axis?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4114800" y="419112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00" h="21600">
                <a:moveTo>
                  <a:pt x="144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00" h="21600">
                <a:moveTo>
                  <a:pt x="11824" y="8224"/>
                </a:moveTo>
                <a:lnTo>
                  <a:pt x="15688" y="8224"/>
                </a:lnTo>
                <a:lnTo>
                  <a:pt x="15688" y="15221"/>
                </a:lnTo>
                <a:lnTo>
                  <a:pt x="16976" y="15221"/>
                </a:lnTo>
                <a:lnTo>
                  <a:pt x="16976" y="16144"/>
                </a:lnTo>
                <a:lnTo>
                  <a:pt x="11824" y="16144"/>
                </a:lnTo>
                <a:lnTo>
                  <a:pt x="11824" y="15221"/>
                </a:lnTo>
                <a:lnTo>
                  <a:pt x="13112" y="15221"/>
                </a:lnTo>
                <a:lnTo>
                  <a:pt x="13112" y="9129"/>
                </a:lnTo>
                <a:lnTo>
                  <a:pt x="11824" y="912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56:13Z</dcterms:created>
  <dc:creator>PritchaJ</dc:creator>
  <dc:description/>
  <dc:language>en-US</dc:language>
  <cp:lastModifiedBy>PritchaJ</cp:lastModifiedBy>
  <dcterms:modified xsi:type="dcterms:W3CDTF">2011-05-24T17:08:22Z</dcterms:modified>
  <cp:revision>3</cp:revision>
  <dc:subject/>
  <dc:title>Slide 1</dc:title>
</cp:coreProperties>
</file>